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B632-E767-4965-8227-6D6FB3081CC0}" type="slidenum">
              <a:rPr b="0" lang="bg-BG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B3A7-906C-4791-9AC8-2BDC1C321809}" type="slidenum">
              <a:rPr b="0" lang="bg-BG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305C-C109-46D6-AC30-DD43E63FD8AE}" type="slidenum">
              <a:rPr b="0" lang="bg-BG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11B8-2FD4-4B56-BF95-88AB5600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AA0B-55AB-4711-831E-091CFD69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04FD-B7E5-493C-A1B0-0D86BB1DD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3399-4113-4D20-B299-52329CD8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24B4D-5E22-4361-8C6F-7701DEF7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1EE45-BAF6-4437-B6AE-6D921029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5EB9B-3191-47B6-A60A-0E100E6F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77CA1-D19A-4601-8CF4-8CBE2CA1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3A084-548B-4C75-A7BE-DF713649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22E99-34D0-4F2B-BC36-C641E3AF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B2194-1AA3-44C6-A890-5912C745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B7AD-6F43-4409-A002-16B6174E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6B279-7180-4861-99F2-D4A03162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AD6E6-0401-4075-95D3-F251DED6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568FF-E445-47DB-8B5C-CFC43EC5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618BB-3774-4910-A2CA-DE52F7A4F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BF4E3-697F-45EA-9F21-A8F96345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3BDB-95CE-4DD9-A5A7-61341BA0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0E09-D688-48D8-8510-13CAB8B9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0FC4-962C-4530-AB35-542E197A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0CAA-A70B-4A28-A636-2E817A6C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3F2D-E428-4E02-AE1A-B99C7D9B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F5FD-F0C9-4E14-91FE-4FF6011B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26E5-B8A1-4708-8DC5-26BC8603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BC5F-35F6-4886-97C6-83B2E3C0E92E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307C-678D-49FD-8A9B-FFB486FFB2FF}" type="slidenum">
              <a:rPr b="0" lang="bg-BG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0" y="1916280"/>
            <a:ext cx="914400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ГЛАВНА ДИРЕКЦ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ОГРАМИРАНЕ НА РЕГИОНАЛНОТО РАЗВИТИ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ГОДИШЕН ДОКЛАД ЗА ИЗПЪЛН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Оперативна програма “Регионално развитие” 2007-2013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за 20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12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 год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5.2013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Соф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www.mrrb.government.bg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www.bgregio.e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250920" y="2133720"/>
            <a:ext cx="871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Договорени средства –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29 млн.евр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Изплатени средства –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14 млн.евр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ертифицирани средства –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8 млн.евр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риключени проекти –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34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bg-BG" sz="2400" spc="-1" strike="noStrike">
                <a:solidFill>
                  <a:srgbClr val="000066"/>
                </a:solidFill>
                <a:latin typeface="Arial"/>
              </a:rPr>
              <a:t>18 за подобряване на образователна инфраструктура, 6 за превенция от свлачища и 10 за  междурегионално сътрудничество</a:t>
            </a:r>
            <a:r>
              <a:rPr b="0" lang="bg-BG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547640" y="1413000"/>
            <a:ext cx="759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Приоритетна ос 4: Местно развитие и сътрудничест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640" y="2204640"/>
            <a:ext cx="48243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остигнати резултати/индикатор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Tahoma"/>
              </a:rPr>
              <a:t>Подобрена образователна инфраструктура (бр.) – </a:t>
            </a: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35 сград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Tahoma"/>
              </a:rPr>
              <a:t>Население, облагодетелствано от превенция на свлачищните процеси – </a:t>
            </a: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36 хил.душ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Tahoma"/>
              </a:rPr>
              <a:t>Брой иновативни практики, обменени и приложени на базата на междурегионално сътрудничество – </a:t>
            </a: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Tahoma"/>
              </a:rPr>
              <a:t>Брой проведени междурегионални събития  с 1896 участници – </a:t>
            </a: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1547640" y="1197000"/>
            <a:ext cx="759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Приоритетна ос 4: Местно развитие и сътрудничест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8" descr="C:\Documents and Settings\ElenkovaZ\Desktop\DSC01142 -1.JPG"/>
          <p:cNvPicPr/>
          <p:nvPr/>
        </p:nvPicPr>
        <p:blipFill>
          <a:blip r:embed="rId2"/>
          <a:stretch/>
        </p:blipFill>
        <p:spPr>
          <a:xfrm>
            <a:off x="5157720" y="2349360"/>
            <a:ext cx="3797280" cy="1965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Documents and Settings\ElenkovaZ\Desktop\CDG Zwezdichka (12).JPG"/>
          <p:cNvPicPr/>
          <p:nvPr/>
        </p:nvPicPr>
        <p:blipFill>
          <a:blip r:embed="rId3"/>
          <a:stretch/>
        </p:blipFill>
        <p:spPr>
          <a:xfrm>
            <a:off x="5157720" y="4389480"/>
            <a:ext cx="379728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Договоре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15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Изплате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6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Сертифицира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3,7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9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приключили проекта, в резултат на коит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Предоставени специализирани юридически услуг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Оптимизирани системи и процедури за управление, изпълнение и контро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Разработен пакет документи за модернизация и развитие на устойчив градски транспорт  в петте големи гра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Осигурени външни експерти за осъществяване на предварителен контрол и участие в комисии за оценка на оферти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Комуникация, информация и публичност по ОПР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Укрепен капацитет на УО на ОПРР за управление и изпълнение на програма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1547640" y="148428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ТЕХНИЧЕСКА ПОМО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460836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Проведени информационни дни и обучения за електронно кандидатстване по обявени схеми за БФП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cc"/>
                </a:solidFill>
                <a:latin typeface="Tahoma"/>
              </a:rPr>
              <a:t>Проведени 23 официални церемонии по подписване на догово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Изготвени рекламни и информационни материа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cc"/>
                </a:solidFill>
                <a:latin typeface="Tahoma"/>
              </a:rPr>
              <a:t>Осигуряване на достъпност, публичност и прозрачност чрез електронни мед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1136520" y="1413000"/>
            <a:ext cx="75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ИНФОРМАЦИЯ И</a:t>
            </a:r>
            <a:r>
              <a:rPr b="1" lang="bg-BG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ПУБЛИЧНОСТ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3513240" cy="216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podpisvane na dogovori 002 june 2012-1"/>
          <p:cNvPicPr/>
          <p:nvPr/>
        </p:nvPicPr>
        <p:blipFill>
          <a:blip r:embed="rId3"/>
          <a:stretch/>
        </p:blipFill>
        <p:spPr>
          <a:xfrm>
            <a:off x="5219640" y="4292640"/>
            <a:ext cx="351324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БЛАГОДАРЯ ЗА ВНИМАНИЕТО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Деница Никол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000066"/>
                </a:solidFill>
                <a:latin typeface="Arial"/>
              </a:rPr>
              <a:t>Ръководител на УО на ОПРР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000066"/>
                </a:solidFill>
                <a:latin typeface="Arial"/>
              </a:rPr>
              <a:t>Главен директор 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000066"/>
                </a:solidFill>
                <a:latin typeface="Arial"/>
              </a:rPr>
              <a:t>ГД “Програмиране на регионалното развитие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6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.0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5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.201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3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г.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гр.Соф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mrrb.government.b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bgregio.e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1"/>
          <p:cNvSpPr/>
          <p:nvPr/>
        </p:nvSpPr>
        <p:spPr>
          <a:xfrm>
            <a:off x="1547640" y="1484280"/>
            <a:ext cx="75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ОБЩ ПРЕГЛЕД НА ИЗПЪЛНЕНИЕТО ЗА 2012 г.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179280" y="2205000"/>
            <a:ext cx="885672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80000"/>
              </a:lnSpc>
              <a:spcBef>
                <a:spcPts val="1125"/>
              </a:spcBef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Обявени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3 покани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по схеми за предоставяне на безвъзмездна финансова помощ на обща стойност 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109 млн.евро (3,5 % от бюджета на ОПРР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Одобрени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198 проектни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Сключени 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257 договора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за предоставяне на безвъзмездна финансова помощ на обща стойност 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412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зплатени общо средства за 2012 г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235 млн.евро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 от коит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- авансови плащания – 112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- междинни и окончателни плащания – 123</a:t>
            </a: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Темп на извършените плащанията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към 31.12.2012 г. спрямо извършените плащания към 31.12.2011 г. е увеличен 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2 пъти </a:t>
            </a:r>
            <a:r>
              <a:rPr b="1" i="1" lang="bg-BG" sz="1800" spc="-1" strike="noStrike">
                <a:solidFill>
                  <a:srgbClr val="000066"/>
                </a:solidFill>
                <a:latin typeface="Tahoma"/>
              </a:rPr>
              <a:t>(към 31.12.2011г. – 323 мнл.евро, а към 31.12.2012 г. – 558 млн.евро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20d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20d16"/>
                </a:solidFill>
                <a:latin typeface="Tahoma"/>
              </a:rPr>
              <a:t>Сертифицирани средства от СО за 2012 г. </a:t>
            </a:r>
            <a:r>
              <a:rPr b="1" lang="en-US" sz="1800" spc="-1" strike="noStrike">
                <a:solidFill>
                  <a:srgbClr val="020d16"/>
                </a:solidFill>
                <a:latin typeface="Tahoma"/>
              </a:rPr>
              <a:t>-</a:t>
            </a:r>
            <a:r>
              <a:rPr b="1" lang="bg-BG" sz="1800" spc="-1" strike="noStrike">
                <a:solidFill>
                  <a:srgbClr val="082d4c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183 млн. Евро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i="1" lang="bg-BG" sz="1800" spc="-1" strike="noStrike">
                <a:solidFill>
                  <a:srgbClr val="000066"/>
                </a:solidFill>
                <a:latin typeface="Tahoma"/>
              </a:rPr>
              <a:t>над 3 пъти повече в сравнение с 2011г. – 53 млн.евро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82d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Брой приключили проекти през 2012 г.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15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547640" y="1569960"/>
            <a:ext cx="75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Изпълнение на прогнозите по </a:t>
            </a: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Lothar </a:t>
            </a: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към 31.12.2012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и съответствие с правилото </a:t>
            </a: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N+2/N+3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179280" y="2276640"/>
            <a:ext cx="878544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ертифицирани кумулативни прогнозни разходи към 31.12.2012г. –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299,7 млн.евро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– съфинансиране от ЕФРР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Сертифицирани кумулативни разходи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о ОПРР - </a:t>
            </a:r>
            <a:r>
              <a:rPr b="1" lang="en-GB" sz="1800" spc="-1" strike="noStrike">
                <a:solidFill>
                  <a:srgbClr val="c00000"/>
                </a:solidFill>
                <a:latin typeface="Tahoma"/>
              </a:rPr>
              <a:t>30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6 млн. евро</a:t>
            </a:r>
            <a:r>
              <a:rPr b="0" lang="bg-BG" sz="1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или 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1</a:t>
            </a:r>
            <a:r>
              <a:rPr b="1" lang="en-GB" sz="1800" spc="-1" strike="noStrike">
                <a:solidFill>
                  <a:srgbClr val="c00000"/>
                </a:solidFill>
                <a:latin typeface="Tahoma"/>
              </a:rPr>
              <a:t>02.3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%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спрямо прогнозата в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thar system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 algn="just">
              <a:spcBef>
                <a:spcPts val="901"/>
              </a:spcBef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Само за 2012 г. са сертифицирани разходи от 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155 млн.евро </a:t>
            </a: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- съфинансиране от ЕФР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 algn="just">
              <a:spcBef>
                <a:spcPts val="901"/>
              </a:spcBef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d14"/>
                </a:solidFill>
                <a:uFillTx/>
                <a:latin typeface="Tahoma"/>
              </a:rPr>
              <a:t>Постигната е целта за усвояване към 31.12.2012г. и не е налице загуба на средства </a:t>
            </a: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от прилагане на правилото </a:t>
            </a:r>
            <a:r>
              <a:rPr b="1" lang="en-US" sz="1800" spc="-1" strike="noStrike">
                <a:solidFill>
                  <a:srgbClr val="000d14"/>
                </a:solidFill>
                <a:latin typeface="Tahoma"/>
              </a:rPr>
              <a:t>N+3/N+2</a:t>
            </a: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 за 2012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444600" y="110952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250920" y="2685960"/>
            <a:ext cx="8642160" cy="61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Забавяне на изпълнението на част от договорите за безвъзмездна финансова помо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редприети мер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ъвместни срещи с бенефициентите  с установени рискови проекти и обсъждане на възможни сценарии за постигане на заложените цели и резулта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Регулярен мониторинг – периодична актуализация на анализа на рискови проек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d14"/>
                </a:solidFill>
                <a:latin typeface="Tahoma"/>
              </a:rPr>
              <a:t>Констатирани пропуски/слабости при провеждане на процедурите по възлагане на обществените поръч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Предприети мер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Осъществяване на предварителен контрол както от АОП (с посл. изм. на ЗОП), така и от УО на ОПР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ключени договори с външни изпълнители за предоставяне на юридически услуг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16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3"/>
          <p:cNvSpPr/>
          <p:nvPr/>
        </p:nvSpPr>
        <p:spPr>
          <a:xfrm>
            <a:off x="1547640" y="1413000"/>
            <a:ext cx="759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Предизвикателства и мерки, предприети за разрешаването им (</a:t>
            </a:r>
            <a:r>
              <a:rPr b="1" lang="en-GB" sz="2200" spc="-1" strike="noStrike">
                <a:solidFill>
                  <a:srgbClr val="a50021"/>
                </a:solidFill>
                <a:latin typeface="Tahoma"/>
              </a:rPr>
              <a:t>1</a:t>
            </a: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3"/>
          <p:cNvSpPr/>
          <p:nvPr/>
        </p:nvSpPr>
        <p:spPr>
          <a:xfrm>
            <a:off x="1547640" y="1413000"/>
            <a:ext cx="759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Предизвикателства и мерки, предприети за разрешаването им (2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79280" y="1844640"/>
            <a:ext cx="871380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Установени слабости/пропуски при изпълнението на инфраструктурните проекти от бенефициентит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редприети мер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О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ъществяване на 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вътрешен мониторинг</a:t>
            </a: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”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от страна на бенефициента върху договорите с изпълнители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ключване на 9 договори с външни изпълнители за осъществяване на инвеститорски контрол посредством извършване проверки на мяст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Изпълнение на Годишен план за проверки на място на приключили проек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d14"/>
                </a:solidFill>
                <a:latin typeface="Tahoma"/>
              </a:rPr>
              <a:t>Необходимост от укрепване на капацитета на бенефициентит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Tahoma"/>
              </a:rPr>
              <a:t>Изпълнение на договор по ПО „Техническа помощ“ - „Разработване на специфично обучение по операции за бенефициенти и консултиране по разработване и изпълнение на проекти по ОПРР“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lang="bg-BG" sz="1800" spc="-1" strike="noStrike">
                <a:solidFill>
                  <a:srgbClr val="002060"/>
                </a:solidFill>
                <a:latin typeface="Tahoma"/>
              </a:rPr>
              <a:t>- </a:t>
            </a: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Проведени 68 обучения в България и страни-членки на Е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	</a:t>
            </a: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- Обучени 828 представители на бенефициенти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	</a:t>
            </a: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- Осъществени 21 учебни пътувания в чужбина с 251 участниц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971640" y="1557360"/>
            <a:ext cx="7524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Tahoma"/>
              </a:rPr>
              <a:t>ИЗПЪЛНЕНИЕ ПО ПРИОРИТЕТНИ ОСИ</a:t>
            </a: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6" descr="C:\Documents and Settings\ElenkovaZ\Desktop\Морска-градина-Бургас 1.JPG"/>
          <p:cNvPicPr/>
          <p:nvPr/>
        </p:nvPicPr>
        <p:blipFill>
          <a:blip r:embed="rId2"/>
          <a:stretch/>
        </p:blipFill>
        <p:spPr>
          <a:xfrm>
            <a:off x="179280" y="3357720"/>
            <a:ext cx="4392720" cy="2893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C:\Documents and Settings\ElenkovaZ\Desktop\park arpezos (5).jpg"/>
          <p:cNvPicPr/>
          <p:nvPr/>
        </p:nvPicPr>
        <p:blipFill>
          <a:blip r:embed="rId3"/>
          <a:stretch/>
        </p:blipFill>
        <p:spPr>
          <a:xfrm>
            <a:off x="4741920" y="3363840"/>
            <a:ext cx="426708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ДРУГИ УЛЕСНЕНИЯ ЗА БЕНЕФИЦИЕНТИТЕ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179280" y="2637000"/>
            <a:ext cx="8713800" cy="40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9"/>
          <p:cNvSpPr/>
          <p:nvPr/>
        </p:nvSpPr>
        <p:spPr>
          <a:xfrm>
            <a:off x="1441440" y="1424160"/>
            <a:ext cx="76662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66"/>
                </a:solidFill>
                <a:latin typeface="Tahoma"/>
              </a:rPr>
              <a:t>Приоритетна ос 1: Устойчиво и интегрирано градско развити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92240" y="1557360"/>
            <a:ext cx="4824360" cy="53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Договорени средства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276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Изплатени средства –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 121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Сертифицирани средства –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103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Приключени проекти -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8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остигнати резултати/индикатор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Подобрена образователна, културна и социална инфраструктура (бр.)–226 сград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Tahoma"/>
              </a:rPr>
              <a:t>Население облагодетелствано от укрепването на свлачища – 481 хил. душ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6" descr="C:\Documents and Settings\ElenkovaZ\Desktop\544802_418350284851425_172028904_n.jpg"/>
          <p:cNvPicPr/>
          <p:nvPr/>
        </p:nvPicPr>
        <p:blipFill>
          <a:blip r:embed="rId2"/>
          <a:stretch/>
        </p:blipFill>
        <p:spPr>
          <a:xfrm>
            <a:off x="4998960" y="2060640"/>
            <a:ext cx="3919680" cy="2300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G:\ПОИП\Снимки - презентация\ПО 1\_5022217.JPG"/>
          <p:cNvPicPr/>
          <p:nvPr/>
        </p:nvPicPr>
        <p:blipFill>
          <a:blip r:embed="rId3"/>
          <a:stretch/>
        </p:blipFill>
        <p:spPr>
          <a:xfrm>
            <a:off x="5005440" y="4505400"/>
            <a:ext cx="394812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-17640" y="1197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96920" y="2060640"/>
            <a:ext cx="89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Договоре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35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Изплате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72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Сертифицирани средства –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53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20b12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20b12"/>
                </a:solidFill>
                <a:latin typeface="Tahoma"/>
              </a:rPr>
              <a:t>Приключени проекти – </a:t>
            </a:r>
            <a:r>
              <a:rPr b="1" lang="bg-BG" sz="1800" spc="-1" strike="noStrike">
                <a:solidFill>
                  <a:srgbClr val="000099"/>
                </a:solidFill>
                <a:latin typeface="Tahoma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1616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6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161616"/>
                </a:solidFill>
                <a:latin typeface="Tahoma"/>
              </a:rPr>
              <a:t>Постигнати резултати/индикатор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99"/>
                </a:solidFill>
                <a:latin typeface="Tahoma"/>
              </a:rPr>
              <a:t>рехабилитирани /реконструирани 340,255 км републиканска и общинска пътна мреж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6" descr="C:\Documents and Settings\ElenkovaZ\Desktop\DSC08579.JPG"/>
          <p:cNvPicPr/>
          <p:nvPr/>
        </p:nvPicPr>
        <p:blipFill>
          <a:blip r:embed="rId1"/>
          <a:stretch/>
        </p:blipFill>
        <p:spPr>
          <a:xfrm>
            <a:off x="4967280" y="4054320"/>
            <a:ext cx="3749760" cy="2640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1440" y="-19080"/>
            <a:ext cx="9144000" cy="19144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1835280" y="1330200"/>
            <a:ext cx="766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66"/>
                </a:solidFill>
                <a:latin typeface="Tahoma"/>
              </a:rPr>
              <a:t>Приоритетна ос 2: Регионална и местна достъпност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7" descr="F:\Северозападен район 04-02-2013\2.1\2.1Mezdra- put\P1060660.JPG"/>
          <p:cNvPicPr/>
          <p:nvPr/>
        </p:nvPicPr>
        <p:blipFill>
          <a:blip r:embed="rId3"/>
          <a:stretch/>
        </p:blipFill>
        <p:spPr>
          <a:xfrm>
            <a:off x="539640" y="4049640"/>
            <a:ext cx="38163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46"/>
          <p:cNvSpPr/>
          <p:nvPr/>
        </p:nvSpPr>
        <p:spPr>
          <a:xfrm>
            <a:off x="1596960" y="1677960"/>
            <a:ext cx="633744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Договорени средства – </a:t>
            </a: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56 млн.евр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Изплатени средства – </a:t>
            </a: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22 млн.евр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Сертифицирани средства – </a:t>
            </a: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15 млн.евр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1616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61616"/>
                </a:solidFill>
                <a:latin typeface="Tahoma"/>
              </a:rPr>
              <a:t>  </a:t>
            </a:r>
            <a:r>
              <a:rPr b="1" lang="bg-BG" sz="2000" spc="-1" strike="noStrike">
                <a:solidFill>
                  <a:srgbClr val="161616"/>
                </a:solidFill>
                <a:latin typeface="Tahoma"/>
              </a:rPr>
              <a:t>Приключени проекти – 8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1616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61616"/>
                </a:solidFill>
                <a:latin typeface="Tahoma"/>
              </a:rPr>
              <a:t>   </a:t>
            </a:r>
            <a:r>
              <a:rPr b="1" lang="bg-BG" sz="1800" spc="-1" strike="noStrike">
                <a:solidFill>
                  <a:srgbClr val="161616"/>
                </a:solidFill>
                <a:latin typeface="Tahoma"/>
              </a:rPr>
              <a:t>Постигнати резултати/индикатор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99"/>
                </a:solidFill>
                <a:latin typeface="Tahoma"/>
              </a:rPr>
              <a:t>развити туристически атракции/обекти – 6 б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99"/>
                </a:solidFill>
                <a:latin typeface="Tahoma"/>
              </a:rPr>
              <a:t>подкрепени национални програми за маркетинг и реклама и проекти за развитие  на продукти и маркетинг на дестинациите – 2 б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47"/>
          <p:cNvSpPr/>
          <p:nvPr/>
        </p:nvSpPr>
        <p:spPr>
          <a:xfrm>
            <a:off x="1649520" y="1479600"/>
            <a:ext cx="76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Приоритетна ос 3: Устойчиво развитие на туриз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2"/>
          <a:stretch/>
        </p:blipFill>
        <p:spPr>
          <a:xfrm>
            <a:off x="4778280" y="4724280"/>
            <a:ext cx="3990960" cy="2005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C:\Documents and Settings\ElenkovaZ\Desktop\bel.jpg"/>
          <p:cNvPicPr/>
          <p:nvPr/>
        </p:nvPicPr>
        <p:blipFill>
          <a:blip r:embed="rId3"/>
          <a:stretch/>
        </p:blipFill>
        <p:spPr>
          <a:xfrm>
            <a:off x="250920" y="4724280"/>
            <a:ext cx="413676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2:48:26Z</dcterms:created>
  <dc:creator>MikovaD</dc:creator>
  <dc:description/>
  <dc:language>en-US</dc:language>
  <cp:lastModifiedBy>Zornitsa Elenkova</cp:lastModifiedBy>
  <cp:lastPrinted>2013-04-24T11:34:38Z</cp:lastPrinted>
  <dcterms:modified xsi:type="dcterms:W3CDTF">2013-05-10T11:45:00Z</dcterms:modified>
  <cp:revision>214</cp:revision>
  <dc:subject/>
  <dc:title>Slide 1</dc:title>
</cp:coreProperties>
</file>